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E74-68CE-414A-828C-78D5B84B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9EE-2B7E-4A85-90D8-7C60CD65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109-76B7-4E88-B12B-2DD8ED90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576-E31F-4912-B298-117BC6C2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65C-76B9-4F16-9FC6-EE997C0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006-22A1-4F5F-91E2-8905E6C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40F-9F73-4952-AC2C-6A93DB2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F64-E945-4B9D-B074-A7525B7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3FE-D68F-4C62-A56B-4AF33121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054-2CA2-450F-9C6E-593AD4C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845-B392-4E3F-9E32-796A170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09E-758B-4E31-BB11-DF652FB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620-8286-4A26-BA1A-4A3817C1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269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6200" y="609480"/>
            <a:ext cx="25369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Logo"/>
          <p:cNvPicPr/>
          <p:nvPr/>
        </p:nvPicPr>
        <p:blipFill>
          <a:blip r:embed="rId4"/>
          <a:stretch/>
        </p:blipFill>
        <p:spPr>
          <a:xfrm>
            <a:off x="1406520" y="464832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66800" y="228600"/>
            <a:ext cx="389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Murray River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15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6ff"/>
                </a:solidFill>
                <a:latin typeface="Times New Roman"/>
              </a:rPr>
              <a:t>Rising sal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ater level ha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Native fish have declined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c2e"/>
                </a:solidFill>
                <a:latin typeface="Times New Roman"/>
              </a:rPr>
              <a:t>Alien fish int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152280"/>
            <a:ext cx="7391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s the Murray River being damaged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delaide’s water may be too salty to dr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Rising salt changes the habitats(the native environment of an animal or plant) of native flora (plants) and fauna (animals) and they may not be able to surv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It also impacts on cro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To reverse rising salt levels and to minimize and where possible prevent,damage to water resources and the environment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Plant deep rooted veg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New technologies in irrigation (eg. Sprinkler) are being int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228600"/>
            <a:ext cx="35719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ising Salt Leve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0840" y="152244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ver a dozen native fish species, including the giant Murray cod are threatened with exti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To rehabilitate(to make better)  rapidly declining native fish communities in the basin to 60% of their estimated pre-European settlement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oordinate the construction of fish ways and river flows to help protect migrating species (fish that move from one area to the nex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ecreate traditional breeding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ring in fishing rules between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5040" y="343080"/>
            <a:ext cx="3390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ative Fish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962520"/>
          </a:xfrm>
          <a:prstGeom prst="rect">
            <a:avLst/>
          </a:prstGeom>
          <a:noFill/>
          <a:ln cap="rnd" w="60480">
            <a:solidFill>
              <a:srgbClr val="ff66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The introduction of Alien Fish has impacted on the environment and native fish</a:t>
            </a:r>
            <a:r>
              <a:rPr b="0" lang="en-US" sz="1800" spc="-1" strike="noStrike">
                <a:solidFill>
                  <a:srgbClr val="dffc2e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To reduce the spread of alien fish and give our native fish a chance, we need to manage issues such as water quality, environmental, flows, fish passages and snags to maintain or return conditions to those best suited to native fish. In a more natural environment, native fish have more chance to compete with alien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Research is being done to interfere with their breeding cycles and stop them reproducing (having babi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66880" y="152280"/>
            <a:ext cx="27054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ien F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Water flow reduced by three-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he Murray river needs a massive 1,500 gigalitres(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One Gig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litre = 1000 Mega litres. One Mega litre= One million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 litres)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o survive its long lasting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urchasing water is the only way to return water to the River Murray in time to avoid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environmental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dec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he government is looking at over-allocation and over</a:t>
            </a:r>
            <a:r>
              <a:rPr b="1" i="1" lang="en-US" sz="1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use of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920" y="190440"/>
            <a:ext cx="58388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ater Level has Dropped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.porter</cp:lastModifiedBy>
  <dcterms:modified xsi:type="dcterms:W3CDTF">2009-04-09T02:02:21Z</dcterms:modified>
  <cp:revision>21</cp:revision>
  <dc:subject/>
  <dc:title>PowerPoint Presentation</dc:title>
</cp:coreProperties>
</file>